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03C-F440-42FE-9FE2-6D02CBB7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AF1-1AB3-4F6E-BCFA-4F977E27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213-71C2-45C3-8CA7-C799C67C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1B8-0EF0-4DAA-8A3C-1A169A4E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67B-11FF-44DE-A5DC-0B1A836E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DEE-7E39-4C37-87E8-B2520EB6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E9D-D08B-4A4D-9352-0DBA2DB5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891-548D-4D9C-AFD1-F07491D5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347-4ED3-4C9E-A589-97518ADC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3B1-88C7-47E5-952F-2180DE76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EE8-8282-4E4C-AF4B-233234A6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CB9-AD7D-44C8-92CD-A54AF1F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2430-59F9-45DA-AF4C-8FE34EBC2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is is an Experiment in Uploading Powerpoint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8:26:18Z</dcterms:created>
  <dc:creator>SD45</dc:creator>
  <dc:description/>
  <dc:language>en-US</dc:language>
  <cp:lastModifiedBy>SD45</cp:lastModifiedBy>
  <dcterms:modified xsi:type="dcterms:W3CDTF">2008-06-18T18:37:18Z</dcterms:modified>
  <cp:revision>2</cp:revision>
  <dc:subject/>
  <dc:title>This is an Experiment in Uploading Powerpoint Files</dc:title>
</cp:coreProperties>
</file>